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83D-F9FD-425A-BCAD-5B395138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77C-0682-4D79-859A-4174DEC6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452-9936-4CF6-8689-EEF0C5F4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62E-5DC0-4154-8975-B0EB7068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1CFB-9992-42D1-BC52-12F236C7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0A14-901E-4CB5-8418-7A7DF09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AE0D-7621-4039-A0BA-5B960E48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156B-FF65-4862-AD74-A8C1F58F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6EE-FD28-444B-93DA-09DEFD9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5CE0-E15D-4AAC-8F94-D797D93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B207-4A02-4D3A-BFBB-53E04A2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4D5-89C3-4DAE-AFCF-B563AF51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D480-A05A-428A-9853-77A9F51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3B92-145E-4021-892D-043F8E6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559C-B4B2-4362-BEFA-33ED170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B83E-6B59-4EF3-9FD8-BE0AFBD8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8763-D149-4748-B937-AC35FD67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B15-CB31-43B0-89E3-C967F162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ADD-4AD9-49B9-9B52-66FBE78F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986-4B1C-4737-9784-0D9237C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500-ECFF-4FF0-BEBF-3E86A62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073-B3CF-4233-BD50-B3104C92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E99-6BC1-4DD6-95FD-68A0619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E7E-7791-4FEA-BA75-EC0F222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8CE8-CB84-4B13-BCF0-92E0BD0F643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FBC9-FB40-4070-8BC8-2B490DC654A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u 1" descr=""/>
          <p:cNvPicPr/>
          <p:nvPr/>
        </p:nvPicPr>
        <p:blipFill>
          <a:blip r:embed="rId2"/>
          <a:stretch/>
        </p:blipFill>
        <p:spPr>
          <a:xfrm>
            <a:off x="493560" y="103680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28840" y="242856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Optica Geomet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CasetăText 3"/>
          <p:cNvSpPr/>
          <p:nvPr/>
        </p:nvSpPr>
        <p:spPr>
          <a:xfrm>
            <a:off x="224280" y="6000840"/>
            <a:ext cx="19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isciplina–Fizic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lasa: VI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CasetăText 4"/>
          <p:cNvSpPr/>
          <p:nvPr/>
        </p:nvSpPr>
        <p:spPr>
          <a:xfrm>
            <a:off x="488520" y="4287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olegiul Tehnic Turd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CasetăText 5"/>
          <p:cNvSpPr/>
          <p:nvPr/>
        </p:nvSpPr>
        <p:spPr>
          <a:xfrm>
            <a:off x="6002640" y="60721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Profesor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Pop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oa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99880" y="3929040"/>
            <a:ext cx="254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Book Antiqua"/>
              </a:rPr>
              <a:t>Va multumesc!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u 1" descr=""/>
          <p:cNvPicPr/>
          <p:nvPr/>
        </p:nvPicPr>
        <p:blipFill>
          <a:blip r:embed="rId2"/>
          <a:stretch/>
        </p:blipFill>
        <p:spPr>
          <a:xfrm>
            <a:off x="420840" y="1700280"/>
            <a:ext cx="82422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imagi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Tabel cu intrebarile che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CasetăText 3"/>
          <p:cNvSpPr/>
          <p:nvPr/>
        </p:nvSpPr>
        <p:spPr>
          <a:xfrm>
            <a:off x="5248800" y="592920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Plan unitate de invatar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xemplu din perspectiva elevulu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Adresa Wiki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Sarcinile………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CasetăText 3"/>
          <p:cNvSpPr/>
          <p:nvPr/>
        </p:nvSpPr>
        <p:spPr>
          <a:xfrm>
            <a:off x="6849360" y="55720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valuare initial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u 1" descr=""/>
          <p:cNvPicPr/>
          <p:nvPr/>
        </p:nvPicPr>
        <p:blipFill>
          <a:blip r:embed="rId2"/>
          <a:stretch/>
        </p:blipFill>
        <p:spPr>
          <a:xfrm>
            <a:off x="493560" y="341280"/>
            <a:ext cx="824256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424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Adresa Blog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Sarcinile………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CasetăText 3"/>
          <p:cNvSpPr/>
          <p:nvPr/>
        </p:nvSpPr>
        <p:spPr>
          <a:xfrm>
            <a:off x="5761800" y="50720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valuare formativ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u 1" descr=""/>
          <p:cNvPicPr/>
          <p:nvPr/>
        </p:nvPicPr>
        <p:blipFill>
          <a:blip r:embed="rId2"/>
          <a:stretch/>
        </p:blipFill>
        <p:spPr>
          <a:xfrm>
            <a:off x="317520" y="268200"/>
            <a:ext cx="860112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Evaluare initia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KW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Evaluare formati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Chestiona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Gril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Fise de activit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Evaluare sumati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Portofoli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Test de evalua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Prezentare grafica (Criterii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Progra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4:46:44Z</dcterms:created>
  <dc:creator>user</dc:creator>
  <dc:description/>
  <dc:language>en-US</dc:language>
  <cp:lastModifiedBy>_</cp:lastModifiedBy>
  <dcterms:modified xsi:type="dcterms:W3CDTF">2010-01-18T15:00:59Z</dcterms:modified>
  <cp:revision>4</cp:revision>
  <dc:subject/>
  <dc:title>Intel Teach turda</dc:title>
</cp:coreProperties>
</file>